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894D-E197-43A2-B94B-5F99F97FC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E81-B5B3-4B8E-AFBB-B006731C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B86-67DA-49D3-A2DA-2542E2DC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873-24C0-4C38-B26D-B4481B38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E92-66EB-43EC-BC4D-7D1706A7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C93-B06E-4736-93E1-B61BA210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CB0-117B-4E5F-9B26-851DF7B7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FFB-87FE-403F-883D-F4663894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717-ECF0-4AF9-8E4E-8CDA4BA8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B56-32A2-4464-AD1D-DF1D47E7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A15-A548-4006-BFC4-D6DCDF5D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D4B-D301-4D63-AD2F-BEC51C4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9B8-FE64-43DB-8F31-2D35ADBD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3704-81ED-4FFA-AC54-15C4523DB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0080" y="1752480"/>
            <a:ext cx="2514600" cy="176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1771560"/>
            <a:ext cx="252252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5120" y="3600360"/>
            <a:ext cx="252252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495680" y="3600360"/>
            <a:ext cx="2522520" cy="175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90640"/>
            <a:ext cx="5410080" cy="0"/>
          </a:xfrm>
          <a:prstGeom prst="line">
            <a:avLst/>
          </a:prstGeom>
          <a:ln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MTA Proposed 2005-2009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Capital Program Amend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AD2-2BE0-4725-A36E-73F2541A4D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   Inter-Ag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366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stablishes MTA Planning Element for projects previously approved by the Board, to be funded from L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 Stadium Stations Investments ($32 mill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pan Zee Bridge EIS ($28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9E1-F726-4B03-AFDB-7C9E34CD9F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submitted for discussion and inp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mendment will be brought to Finance Committee and Board in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will be submitted to CPRB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94B-DF1F-489A-BAA1-78984D580E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Programs are regularly amended, annually or semi-annually, to reflect changes in project scopes, costs or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hanges occur within the original program 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mprehensive 05-09 amendment approved by Board in  December 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CPRB approved plan March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05-09 Program were suspended during development of 2008-13 accelerated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bsence of Congestion Pricing, next program will follow original 10-14 perio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mendment reflects impacts of regional construction market conditions and new priorities since the last amen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this amendment were largely anticipated in 08-1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ncreases are offset by defer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ferred to next program will come at a higher cost than currently budg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day for consideration and comment; final amendment to be submitted at July Finance and Board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of Propose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6D3-E79F-4894-82C8-ABF5B0D37A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FFGA’s for SAS and ESA previously approved b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64 million for SAS and the remaining balance of $267million for ESA (since April ‘07 Board amend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funds from discontinued LaGuardia Airport Access project in 2000-2004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LGA-funded projects previously approved by Board (South Ferry, TZ Bridge Study, LMCCC and Shea station initi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remaining LGA funds to NYCT ($80 million), LIRR ($16 million) and MNR ($11 million) to fund work that would otherwise have been in nex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B approval required for these funding changes and program elements with increases greater than 10% since last CPRB approved plan (March ’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860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744-5672-47C8-8CE8-0422219F60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in Agency Priorities and Trade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creases reflect higher project costs and new priorit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given to fund projects that maximize saf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to Fun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 projects that were likely to occur late in the program or that are experiencing delays; reprogramming early into next program minimizes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0DC-F070-457D-8B54-4B5B9EBBC2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York City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2.3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2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" y="3886200"/>
          <a:ext cx="4038480" cy="27352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 in 05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Division Cars                               164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nd Buses to Replace Artics          88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23 Stations             340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shing CBTC and WPR Signals  194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ver Viaduct                                   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Hale Depot                            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Prior Pla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7200" y="14796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 in 05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Div Growth Cars                       $200 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’l Paratransit                              33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 Control (LG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/Screens at 44 Dark Stations      47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Component Prog.             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523880"/>
            <a:ext cx="3886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 Artics                                   $54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Station Rehabs                        279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 Plants                                   385                                 Tunnel Lighting                     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 Painting Projects         57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ver Line Signals                       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BL Interlocking                          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7th Overhaul Shop                  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Depot                             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mer and Flatbush Depots          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Radio Project                         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L                                                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Track Project                            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2E2-5297-4FF4-9990-CC92929CB6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Island Rai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4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4267080"/>
          <a:ext cx="4038480" cy="2392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3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Fixation Track Repl,            $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T Fire &amp; Life Safe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rack Program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lon Car Was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 Fit-Out (Phase 2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. of Way Repair Facility        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523880"/>
            <a:ext cx="43434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shing/Flatbush Elevators (LGA) $1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Capacity Study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7 Hor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 Pain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ens Village Elevators          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Queens Projects (LGA)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Y Substa/Tower Reloc. Design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403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bylon to Patchogue Signals      $2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Interlocking Design             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auk Branch bridge rehabs         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way (Port Wash. Branch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0th St. (Jamaica) bridge work        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y Interlocking Reconfig Design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 Sta. Facilities &amp; Yards work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852-B0FF-4EEE-B7C7-49160C02A6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-North Rail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4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on-Harmon Shop Master Plan $1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of Hudson Locomotives (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Life Remanufac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$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landt Parking– CMAQ funded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ghkeepsie Station Building       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wart Airport A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57200" y="1600200"/>
            <a:ext cx="40384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Employee Facilities Rehab.  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x Stas/Capacity Imprvmts (LGA)   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al Hat Bldg Purch. (Beacon, NY)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23880"/>
            <a:ext cx="404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2 CSR (superseded by  M-8s)    $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rytown Platform/Overpass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Leaks Remedi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ton-Harmon/Peekskill Sta. work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con Line Undergrade bridges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L Undergrade bridge work (2)      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BE9-C98E-4729-9117-26C536897E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523880"/>
            <a:ext cx="415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Hudson U/L TollPlaza decks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orough decks-Toll Plaza/Ram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T Elect. System upgra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Anch&amp;Tower Pro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Orthotropic deck reha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olations Enforcement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Automated Trf. 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Generation E-Zpass In-L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t Pkwy Ramp widening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767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s and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4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0" y="914400"/>
          <a:ext cx="4176720" cy="380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3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x-Whtstne Approach Decks       $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gs Nk Concrete Deck Repl.       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razano Approach Deck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borough Bldg 104 rehab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T Ventilation rehabilitation        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s Midtown building rehabs.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57200" y="1523880"/>
            <a:ext cx="4038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razano Structural Steel Rprs.  $1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619-B60F-4FE1-B410-B975D0F6D4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Capital Construction Compa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371600"/>
            <a:ext cx="815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budget increases from $6.325 billion to $7.39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emaining $267 million from FFGA to ESA ($1.255 b added in April Board amend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FFGA’s $764 million to 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st growth identified in 2008-2013 Program is not reflected in amendment;  will be incorporated in next capit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corporates two projects previously approved by the board, to be funded with $37.7 million from LG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outh Ferry Terminal ($27.3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TA’s share of Lower Manhattan Construction Command Center ($10.4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B approval will be needed to add FFGA funds, which are critical to the progression of ESA in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A4E-AC45-42D0-9809-334DD04CBB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4:26:21Z</dcterms:created>
  <dc:creator>MTA</dc:creator>
  <dc:description/>
  <dc:language>en-US</dc:language>
  <cp:lastModifiedBy>MTA</cp:lastModifiedBy>
  <dcterms:modified xsi:type="dcterms:W3CDTF">2008-06-23T14:23:28Z</dcterms:modified>
  <cp:revision>264</cp:revision>
  <dc:subject/>
  <dc:title>Sizing the Core Program</dc:title>
</cp:coreProperties>
</file>